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15D-C1F9-4BD1-87A5-E99764B1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642-8A4F-4F94-A501-FFA419C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B4B-0C2C-4F8D-9B7C-CE1BAC74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EF6-2E20-4746-9A17-53DDE266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08C9-767F-4DE1-8AFE-380183BC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8C7-A8E6-4EBF-85D1-B3A3193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2F9-F65A-427F-9E2B-023B33C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21D-E449-4EEB-B938-C2DB36F6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92C-6FE7-4DF4-B246-CF6F2D03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BC26-AE7A-4405-85A1-9DE205A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F7F-7585-4607-8F26-A628BCA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7A2-767D-4ACB-83F2-71D49B5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708-6D3B-4C00-A487-F94C7C0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84B-EB4F-420E-AA74-00B8B82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C370-7881-41AA-9572-A57566E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B447-18DE-4D7D-A713-0599786E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5094-D86F-4AC6-A5AA-35175675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6427-F1DA-40BF-B8C0-B9D4D028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E47C-A94D-43E7-9A37-93F40E8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EF88-6D63-4589-8CF5-4C9A8D0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F5BA-BBA5-48A8-8996-FD97C20A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CB63-BFC1-4FD2-8B9D-864B1299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272-E14F-4A55-B93E-0E08FBD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A11C-47BC-45A4-B733-AE6883BE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06AF-66A6-496E-BFED-C8A594C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1D66-8667-41B7-AF4B-D0B485E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4E71-EF4C-41A7-B52C-2E57917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C4EE-B2F5-494F-9138-E241FD20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0BCC-8C87-4F1C-89C0-51E90CBB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C03C-2DDA-44AF-9F9E-69D6F7C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D712-46BC-47D5-BC31-68E56B9E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F2F3-1F59-4B1B-949C-CD31BAC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E1E3-1F31-4768-944B-3A2B610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222-EA35-4087-B1E1-7621A65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D824-9917-4697-9858-651DACD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4D74-8856-471F-AF44-770770B8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60AA-B2B9-4A54-AC79-3406AD7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0238-030B-4629-BDFE-F9C4C2C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56E4-2CC4-486B-8A13-052BE70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D3EC-0E11-48EE-A805-2BBB707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9EAE-CDA4-4635-B193-2F162B2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1A37-EDC6-4F26-8993-D01C0693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7577-6775-415E-8648-74E84E1E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AB0C-CF19-4C98-9824-6D88D8A9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C58-8022-4335-ADDA-F7AF39D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EC57-8620-49BC-B33C-43C0774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E067-233F-4FF6-90D9-E8A6D9D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C5D0-516C-4A31-85C8-D4CBDEAF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1541-61BC-4563-ABCB-E36BD67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2AF6-6D74-466A-A8EC-F5362135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42DF-2D25-46C7-99FA-67C47C0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5719-77D9-42FC-8E53-E3BFFCD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5135-BC35-4A81-9943-6591F7B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B260-1549-46C1-B810-DA168701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8B0A-C7D4-4A6F-8A34-737C9F43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110-241A-4F41-9F59-A0A1F64A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FBFF-AA49-4557-B06E-B2E16CD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5437F-901E-4484-BC1D-093AE2BF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D9D95-3300-4546-8C03-6DCDBE4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1AEF-C703-4596-B06A-2E6484A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12BEA-9BF2-4799-AB6F-A1E8B79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289A-F0F6-4DB3-A5EF-3D774F7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D515-B592-46BC-BDEE-C70DB47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7C56-AF99-4B7C-881B-D6B9BB7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711D-7FEA-46E6-B348-9C4D30F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7351-1E11-4868-8823-7FF6B7F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41D-36CB-41C5-8430-50559C7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3CA5-D862-4894-99B4-06851B1B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43B6-1982-40D4-AFC8-E9E9F866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B590-2BCB-441F-BD3C-9033A8E3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1EB3-DC52-48C6-96FA-B22A1F6E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AF22-2027-4F2B-9DC0-66932A4A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76EAB-30E4-4BC7-BB42-D8B7FF5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9129-72E5-45B3-BBD7-3C02C18C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0DABA-342B-4963-8745-3574D29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5FF10-DC34-4196-91E9-D0833E9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B88BA-B094-4407-831C-01528CE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5DB-43C2-4C70-99CF-AEF7943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74873-0BB5-4AE2-8F38-31F1EE6C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34E5-5CCD-493D-8FC2-7FAF6B9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4BDB-7A13-482C-A72B-41A9652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66AC-D007-4115-8C63-0B93A5B5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037E-A9D4-491A-9BF9-3692E478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4A3-4E19-4F9E-B09C-3ECE859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FCF4-98C9-4424-9FA0-70AF679C9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F76-4832-43A6-9A6A-BF45B16A4D0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4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416-1E3B-4D58-BBEE-9A745932406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B3C-C40C-4D92-9C58-4E1CAD1C70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8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21E-20EE-42D5-A408-0C4791E9FB8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21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322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3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340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344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348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352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C6F-0B67-4BAA-861C-E2D3125458E1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975-FF1C-491C-8FE9-F5970CCFF3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20051012102459805"/>
          <p:cNvPicPr/>
          <p:nvPr/>
        </p:nvPicPr>
        <p:blipFill>
          <a:blip r:embed="rId1"/>
          <a:stretch/>
        </p:blipFill>
        <p:spPr>
          <a:xfrm>
            <a:off x="-324000" y="-15840"/>
            <a:ext cx="10944360" cy="68976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5"/>
          <p:cNvSpPr txBox="1"/>
          <p:nvPr/>
        </p:nvSpPr>
        <p:spPr>
          <a:xfrm rot="21269400">
            <a:off x="0" y="259920"/>
            <a:ext cx="334800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0000"/>
                </a:gradFill>
                <a:latin typeface="宋体"/>
              </a:rPr>
              <a:t>神七飞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一个人做事，要先做自己应该要做的事，再做自己喜欢做的事。这就是责任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79280" y="404640"/>
            <a:ext cx="43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Arial"/>
              </a:rPr>
              <a:t>心灵寄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图片19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897408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5"/>
          <p:cNvSpPr/>
          <p:nvPr/>
        </p:nvSpPr>
        <p:spPr>
          <a:xfrm>
            <a:off x="395280" y="189000"/>
            <a:ext cx="979344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对集体负责</a:t>
            </a:r>
            <a:r>
              <a:rPr b="1" lang="en-US" sz="8800" spc="-1" strike="noStrike">
                <a:solidFill>
                  <a:srgbClr val="333399"/>
                </a:solidFill>
                <a:latin typeface="隶书"/>
                <a:ea typeface="隶书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爱学校、爱班集体、为集体增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荣誉和力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3333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2344680" y="8366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说一说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我校学生有哪些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是不爱护学校、缺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责任心的行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WordArt 6" descr=""/>
          <p:cNvPicPr/>
          <p:nvPr/>
        </p:nvPicPr>
        <p:blipFill>
          <a:blip r:embed="rId2"/>
          <a:stretch/>
        </p:blipFill>
        <p:spPr>
          <a:xfrm>
            <a:off x="3090960" y="4363920"/>
            <a:ext cx="3571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白云0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5"/>
          <p:cNvSpPr/>
          <p:nvPr/>
        </p:nvSpPr>
        <p:spPr>
          <a:xfrm>
            <a:off x="344376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我爱我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3685680" y="1916280"/>
            <a:ext cx="13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赞一赞我们班的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榜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1987560" y="1844640"/>
            <a:ext cx="50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自问：在这个班我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要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324000" y="2133720"/>
            <a:ext cx="86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自我剖析：我是否有过对班集体不负责任的行为？今后怎样做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154240" y="206064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校运会到了，你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怎样为班集体作贡献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395280" y="2060640"/>
            <a:ext cx="86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我们班还存在哪些缺乏责任心的现象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2127240" y="62064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老师布置的作业，你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完成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拖欠作业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抄袭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570320" y="1484280"/>
            <a:ext cx="441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违反纪律或破坏公物后，你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找老师认错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想方设法隐瞒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屡教不改，并埋怨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286440" y="2997360"/>
            <a:ext cx="265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看到不良现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学生打架、考试作弊 、乱扔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你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上前制止或告诉老师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若无其事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做老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755080" y="436572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为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班的一员，对于班级活动，你会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以主人翁精神参加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认为无所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找借口不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8"/>
          <p:cNvSpPr txBox="1"/>
          <p:nvPr/>
        </p:nvSpPr>
        <p:spPr>
          <a:xfrm rot="21391800">
            <a:off x="395280" y="0"/>
            <a:ext cx="2305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79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照镜子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79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324000" y="57340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受到挫折或受委屈时，你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自杀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离家出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处我调节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白云01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344376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我爱我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WordArt 8" descr=""/>
          <p:cNvPicPr/>
          <p:nvPr/>
        </p:nvPicPr>
        <p:blipFill>
          <a:blip r:embed="rId2"/>
          <a:stretch/>
        </p:blipFill>
        <p:spPr>
          <a:xfrm>
            <a:off x="1347840" y="1878120"/>
            <a:ext cx="624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49" name="WordArt 7" descr=""/>
          <p:cNvPicPr/>
          <p:nvPr/>
        </p:nvPicPr>
        <p:blipFill>
          <a:blip r:embed="rId2"/>
          <a:stretch/>
        </p:blipFill>
        <p:spPr>
          <a:xfrm>
            <a:off x="895320" y="55440"/>
            <a:ext cx="7608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4"/>
          <p:cNvSpPr txBox="1"/>
          <p:nvPr/>
        </p:nvSpPr>
        <p:spPr>
          <a:xfrm>
            <a:off x="2916360" y="549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楷体"/>
              </a:rPr>
              <a:t>记者采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21000" y="1844640"/>
            <a:ext cx="7422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老师眼中有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心的学生是怎么样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图片3"/>
          <p:cNvPicPr/>
          <p:nvPr/>
        </p:nvPicPr>
        <p:blipFill>
          <a:blip r:embed="rId1"/>
          <a:stretch/>
        </p:blipFill>
        <p:spPr>
          <a:xfrm>
            <a:off x="5076720" y="3716280"/>
            <a:ext cx="1965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矩形 1" descr=""/>
          <p:cNvPicPr/>
          <p:nvPr/>
        </p:nvPicPr>
        <p:blipFill>
          <a:blip r:embed="rId1"/>
          <a:stretch/>
        </p:blipFill>
        <p:spPr>
          <a:xfrm>
            <a:off x="523800" y="212760"/>
            <a:ext cx="7797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自己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努力学习，塑造自我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他人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关心爱护和帮助他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集体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为集体增添荣誉和力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社会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以良好行为创造美好的社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WordArt 5"/>
          <p:cNvSpPr txBox="1"/>
          <p:nvPr/>
        </p:nvSpPr>
        <p:spPr>
          <a:xfrm>
            <a:off x="2916360" y="189000"/>
            <a:ext cx="36716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我们的责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5"/>
          <p:cNvSpPr/>
          <p:nvPr/>
        </p:nvSpPr>
        <p:spPr>
          <a:xfrm>
            <a:off x="1258920" y="620640"/>
            <a:ext cx="824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对自己负责</a:t>
            </a:r>
            <a:r>
              <a:rPr b="1" lang="en-US" sz="8800" spc="-1" strike="noStrike">
                <a:solidFill>
                  <a:srgbClr val="333399"/>
                </a:solidFill>
                <a:latin typeface="隶书"/>
                <a:ea typeface="隶书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隶书"/>
                <a:ea typeface="隶书"/>
              </a:rPr>
              <a:t>自己的事自己做，爱生命、爱学习、懂自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826920" y="476280"/>
            <a:ext cx="25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动一动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11280" y="1700280"/>
            <a:ext cx="786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自查课桌物品整理整洁情况，给自己打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花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分钟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整理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课桌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物品，清洁课桌周围纸屑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2005101913252681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求学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2411280" y="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珍惜我们的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24000" y="2637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、有的同学学习凭兴趣，喜欢这门课，就多花点时间看看，不喜欢那门课，就放弃；喜欢这个老师讲课，就有兴趣学好这门课，不喜欢那个老师讲课，就不听他讲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这种态度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10"/>
          <p:cNvSpPr txBox="1"/>
          <p:nvPr/>
        </p:nvSpPr>
        <p:spPr>
          <a:xfrm rot="273600">
            <a:off x="250560" y="333000"/>
            <a:ext cx="2663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隶书"/>
              </a:rPr>
              <a:t>说一说、想一想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隶书"/>
              <a:ea typeface="隶书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3386160" y="1413000"/>
            <a:ext cx="180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我们班有哪些对学习不负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任的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1:39Z</dcterms:modified>
  <cp:revision>24</cp:revision>
  <dc:subject>主题班会课件(分28大类): http://shop62905894.taobao.com</dc:subject>
  <dc:title>主题班会课件(分28大类): http://shop62905894.taobao.com</dc:title>
</cp:coreProperties>
</file>